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3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13.png" ContentType="image/png"/>
  <Override PartName="/ppt/media/image9.wmf" ContentType="image/x-wmf"/>
  <Override PartName="/ppt/media/image37.jpeg" ContentType="image/jpeg"/>
  <Override PartName="/ppt/media/image30.png" ContentType="image/png"/>
  <Override PartName="/ppt/media/image29.jpeg" ContentType="image/jpeg"/>
  <Override PartName="/ppt/media/image3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33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40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5.png" ContentType="image/png"/>
  <Override PartName="/ppt/media/image43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  <p:sldId id="293" r:id="rId60"/>
    <p:sldId id="294" r:id="rId61"/>
    <p:sldId id="295" r:id="rId62"/>
    <p:sldId id="296" r:id="rId63"/>
    <p:sldId id="29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slide" Target="slides/slide38.xml"/><Relationship Id="rId61" Type="http://schemas.openxmlformats.org/officeDocument/2006/relationships/slide" Target="slides/slide39.xml"/><Relationship Id="rId62" Type="http://schemas.openxmlformats.org/officeDocument/2006/relationships/slide" Target="slides/slide40.xml"/><Relationship Id="rId63" Type="http://schemas.openxmlformats.org/officeDocument/2006/relationships/slide" Target="slides/slide41.xml"/><Relationship Id="rId64" Type="http://schemas.openxmlformats.org/officeDocument/2006/relationships/slide" Target="slides/slide42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C562-ACF1-46FB-8767-04D12C413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5C04-DB17-4118-B5A9-5FE9882C7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</a:rPr>
              <a:t>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7AAE-F4E9-40EA-A1E6-B44A5244C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26BD-7097-4D47-8CBF-AB86BAD7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7049-F421-48AD-851D-84AF03F04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2B6-2DFA-4E11-A206-E3AFCD9A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63A-3A9A-4B17-968D-26E65E0C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7F2C5-BBA9-4A3A-A042-4078317E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8DB8B-9E23-4252-A90F-839E9B7B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A445D-CF3D-4CD0-B589-C2BD535F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C1881-A25D-46B4-B6CD-6B516287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EEA9E-95F6-4BB9-B6FB-3B32506A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85070-E3FF-49F8-AD11-C651E5AD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D28E1-0B3C-4E71-90D2-E767F7E1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AF699-8786-43A6-A9A3-184A27D2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14EA4-10A2-4E01-9E6B-08EB1046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A97E3-C373-4C9B-8CD0-700263E0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F23-33E6-49D1-BDD9-8EC6C277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B6856-DF59-42A3-99AA-F9CE7901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64134-917D-4BD4-9722-899D1CCC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07DA8-95AF-4F35-8AD2-D3F603EC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DD1D0-3137-482B-BDB5-5E4E9C47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31028-A7C9-4E77-9A45-A5DD141D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B955B-B1C9-44BD-A831-A4708581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807B8-0E39-474A-B9FC-61023B14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946DF-A996-47A4-AFF3-D4AF128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02D5B-5E54-40E1-8D09-C1407B9F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355DC-BEE6-4C2A-AA3B-9C5126C4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D7C-658F-473D-A356-A2BD78AE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E22C3-0E70-467B-91B1-F3CD5436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02207-AAEF-4C22-80C9-C0A7C4EA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2B042-FDC3-4E37-ACEC-9357CC8A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08A91-8B1E-4933-9D3E-F66FDFF8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25D39-342A-43D9-A6A4-246700D5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06557-87EF-462C-BAD1-B0C7E4B8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F3ABC-AB2F-4D71-AFE2-2627A094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A852A-3680-442B-AE77-6E406236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C1B9D-ACD1-427F-A620-E5D514F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C71B0-B29A-44B4-8805-5687679F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23DA-DA55-406E-A760-0B962005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CAAFB-D1CF-4B6B-B198-6C368ED5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C2E90-860D-488F-BB6A-CEECB253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C1C0A-DDF8-4BCD-88BB-410B230D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28E47-4550-49E0-B312-7DD9816E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DF937-1AB6-4EF2-86F3-91C154A8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C7637-F6C0-4DC3-90DE-C0CF7569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F1053-F540-4E50-B8F2-331EBE1B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6A7F5-5250-4737-83EA-30224FF5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12148-E872-4834-BD6C-7CAE537F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4D058-FB64-417A-97FA-1080D94C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351E-A0EF-414D-AD27-F60D53AF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A2303-C41D-4369-961A-8978AB4C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8897A-F183-4BE7-8F79-4B1AD35E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18CD4-1BC0-473D-8243-B4ED9A66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9506F-7D69-4EFB-AE83-6697FAE5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B5847-C146-4DCA-A016-A96726F6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2BCD5-715A-4BEA-8BF4-548EF2B0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9BD46-6486-480B-B3A9-4C1F127C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E4B3D-3888-498E-9EC3-5D4C1E44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63243-7C05-406D-A69E-F6A6A3F8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6D9FF-F0B0-47C3-89D2-B3942543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19E5-2F11-4002-B777-188099D7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A7928-AE22-4862-8DF3-D26D53CD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F90CE-6234-48BA-83E9-8FB193D4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88868-2796-45E5-894D-A40BCCE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7DF24-284B-40AC-8A1A-382C81A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305E1-B62C-4AF4-ABBA-8E303622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57078-E4A9-4896-A577-39027C60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37529-D999-4DCF-A436-49F86D60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05C5D-F632-4D2F-B123-3E6CD882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1D73A-AF7B-4825-8DA6-D7CC7889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1FC78-021F-4515-8F43-775223F1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4480-ADE5-4DF5-91DC-BB09BFC5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3746C-32FF-43D7-82CC-D84898A3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DBC0A-6593-45AD-9245-F8EBC420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AEA56B-53C5-4915-A48B-DE4B9FD5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FD59A-2119-448E-835A-DF21F4E6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D31FD-2D64-4E8E-AD8A-65B0666A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92CAD-9FE1-4747-A76D-03B437B3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F9172-5490-4F99-9FE4-4E2866C8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A8F15-B5F1-49F1-BDC2-1DCB5D59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8FCA3-CF30-4004-B54C-0BD7DE64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EB2E6D-75CF-4D81-953C-5511DE32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DB6C-AEA9-482C-8541-7C81FB0D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C1C1E-5CA4-46A8-B12F-B0608031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7C566-E298-4057-8276-23D6D2B9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0C762-E6F4-4A45-9068-29FA9277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2FD02C-0937-44A4-97F3-49DB8C76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7012B-9613-45C0-8BD7-3D5C4267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067F4-60C1-42AA-BB7E-37728798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0B442-A2D4-4B74-85A2-3754A85D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A2D98-72EC-400A-89B1-250A621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956CD-98E6-4694-B506-3E2503BA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C1F97-1922-446A-BD9C-AB6640DE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2A7D-4D36-47F5-B503-832E9A88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8B13F-E814-4763-9816-8EC695D4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BD8AF-F232-4E79-9CB3-9F4699E1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58C4AF-58F2-4FBA-A480-B7FAF1E3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78352-D7D4-4F1D-8A7A-EFCB0596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4F931-0E5E-49C2-B628-958630C4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68621B-EF60-46FA-8DF3-E9828CFD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D5A4C-580B-4A67-AE7F-1744111C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629A3-C076-4A40-B43E-E6F15D65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884DC-D3CC-4D9D-9D1E-29554E6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DAD1A-0EB6-469E-9F3E-98882DE7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6DA9-B4DE-4D74-A44D-965727C8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61F59-7EAB-4445-8068-7466917D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1154D-DB9E-4CAA-BB70-A6ECACBD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273D6-1945-4287-95C6-E6573BCD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5E707-D296-4232-A0CC-8844279F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858CD-892E-4012-BBEF-890F1F86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0C657-6AE1-4D4C-A2E1-CBCD9614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FE165-5A00-489E-B790-B5C92B5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2496E-DA8A-4376-A995-340C7E33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314A5-5B5C-49EE-B8A3-778CCF4F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7EBEF-CB2D-46B6-A4E7-C4A5961A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CF8-9224-4774-AA60-92E4BB6D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A631-A27E-4798-9519-A97EB67D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072739-A830-4640-BE25-C54D5841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5E35F6-6E40-4357-AFA3-2ACB8A9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D6FF1-27B7-4B3F-BF2D-22ED6508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81ABC-E291-4356-8BAE-842812D2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21EAD-0CBC-4906-BA1F-C48FF83A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84580-EB5D-4721-A85C-69990B67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0E239-C71C-4C0C-BC5E-70A86218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32AB78-ECC8-45B2-AE14-57B5A658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7F16D-1A17-4938-B5C1-C359AA23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618B9-BCF0-4DE3-AABF-91C3AA92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153C-3EEC-4A5F-8864-AEB6D30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ADC67-3CE4-4D62-855E-89C9846D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8AC02-C9A9-4CEC-B064-7C046CD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A13F3-8C50-4BCB-95C4-5EDE504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72C67-A33F-49F1-BAA5-4B353D9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4C60C-BF44-4504-A26D-BD476E18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7ECE7-5125-4E97-A9EF-1AE73751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54B0C-EF37-4420-A349-4BB95235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D6451-F4CD-492F-84D2-0B3AE871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A9FD4F-45DD-4B4B-BB1B-1A93FDDF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C83EF-45F3-4F16-9022-3119A4A7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B8A5-EC10-4334-9BF2-A096D79D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C58B3-4E14-4800-BEA8-F3A71386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7F2068-A4B0-45F1-9884-E197532B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60F81-8179-4128-AB59-DB47C1CF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ED6FFB-8EDB-43E2-865B-483FA5BB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82402-6100-4F8F-80E0-DD8EEDC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5AA52-5181-45FE-A03E-66BFE44B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95414-7D3E-4A75-A5A0-3B9F7D5C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3EEB86-F1A2-430B-9D9F-5A639A62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01D38E-6B4A-4952-B979-FF6F1443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C319BD-E8E1-4908-A0B5-6A91336A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B939-EAD9-4FEF-B8BD-4FC50936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886B04-C9FB-47FD-BDD5-82C3CCB2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AE90EA-477E-46B0-B7FE-F9E2E1C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FCFDB2-10FA-4FC5-B1D1-2E464193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FBED3-0F1B-48D7-8984-095D3416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129DD-1F1C-424E-B5BE-93CAD14A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D34C68-1F0B-4649-805B-710A3D2C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39FEA-434B-4B5D-90D1-19EE3E7F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1A575-A37B-4A0C-8484-C9235085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DCC1C-A774-4B6A-BF2F-6029C355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4226F-2B6C-45D1-8A35-1526C63C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D2E4-21E3-46DA-AD98-F1BC80AA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3349EF-7562-47F0-825B-B407CC8C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7DF4-2B5D-4DCF-B8C1-2069A9BD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2D25-7CB0-4411-9D33-76610611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064D7-F0C1-47B1-A21E-A9D0C650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9A18-C865-4030-A962-46CA8CBB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DB8C-B345-47FD-A39C-BC594254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8F3-1857-4A8D-AAB5-A18DC795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987E4-AF88-4B5C-ACA6-A47BCFF1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47C8-ACE2-4965-A897-BAAC9CC6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64540-9508-43F9-814C-4FFAAFF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27A1-70FB-4E13-A408-BBFC45D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C368-B2D5-4C56-84FD-9BA8D42D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D922B-DED7-4625-8BA3-5B67E359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4D36-9802-4A8A-A525-8464181A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E3DF-16D1-4FF9-90DE-27738D5F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1341-D008-4EFA-B71F-B40A8389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7934-C820-4564-8CA1-6497B269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376-6874-4AB6-A3DA-92E709BD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5AA7B-9218-4EE0-9ADB-4D89B7D9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06877-E975-4F8E-83D9-9B40A05E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B733-0970-4DA7-A996-18212E3C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70EF-7CAF-4BFA-A883-E8EFEC7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3E356-14F4-4CE2-B7BF-3A63297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0396A-ACA4-4BC6-9ED5-55F163C1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193C6-FEC6-46C3-92C8-9BFFCEB2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EC47-70D3-48E1-AC9D-99ECD7EF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221A-7D7E-494B-A54D-21760683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746BC-F591-475D-BE66-FB1AFF4A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857-DEA1-4E43-8ADE-34EB9D27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F3A5F-B042-466F-B897-E227E709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7ABD5-DF3B-4C05-B8AD-96548AA5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A3988-ECAD-48D3-9CA1-BE3B32DF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A535-A292-49C5-9DBB-D4623347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B3D67-DD13-4B1E-823C-9BC9D4F7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FE96-4449-41B8-A447-B550C63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FE2A9-D438-426A-A2FE-7CD19E1F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4DBA-026B-41A0-9715-A28B30A8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8245C-A01F-4626-A71F-D49EBBE7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C146F-FB53-431C-AD84-93AEFB23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204-B81F-418B-8850-8743FCA0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EB613-585B-4CAC-ABE0-845B17DE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9B5C-599D-49C4-A794-7597025C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32B9-1A19-43E9-ABA3-A55EC583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62416-E897-4EFB-BFCC-99C28C5A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8C5E1-0039-4EA8-BEBA-3D7CBF1E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ACF9-B638-49C3-BEED-80730815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94FB3-5881-4EFA-B8E0-CC2D54A3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C1778-F440-4944-9DD8-F72A050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E5386-38FA-49B8-9D56-B7FB3255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15950-0334-4C9B-9E4F-A4224A7F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F17-22F7-4510-9407-62666E40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471AF-C8AF-43CA-90FB-3C776431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82569-B9DA-479E-86D1-749B5023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BC774-C6D1-42C5-9646-27ADDE3E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81C3-A06F-432E-AFF7-E96FCD4E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3C829-4F64-4FF2-A825-A0ED44D7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2969E-5252-47C9-AF47-BC6B5998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C16CC-8928-499E-9A36-A1470F93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48BC4-FD3B-4F3C-89BE-A27E033B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3F356-4E97-43A3-81BD-3F5305B3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FEF7E-82F0-4E50-ABCB-11B16964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C34-60B9-4112-80F8-728D90C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8EDCE-9E9C-48F8-A51E-2668B13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785E4-5772-4C5F-BD68-10686D7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0969F-D3F4-4BB8-A5ED-33DDBFEA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ECB02-32DB-48AD-AB8B-E1E8D769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1C831-592A-4350-895A-E0D8E813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538FC-CB3A-457B-AC23-ED486981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4B0B7-6283-405B-9213-A0720D52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CF21E-F547-423E-A441-DA2FE0B1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3E0B4-1862-464B-9DAE-93EA3F35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D903F-5313-4331-9E24-8B4E5FCD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FA8-DE5F-4F20-8EDA-A39BD52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2A62-80F3-4E1B-B6FF-F515DF4B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227E-1552-4067-BC75-BF1BE893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0694A-F5E0-496F-B32A-C34C3EAF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E0CD7-49D9-4C3A-9322-918789BB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A5E81-4719-4B9E-AC66-96ECD6E2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A5834-778A-4BA7-B4F9-EDBFC373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32507-2BEF-434F-87C8-14BFA889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430B7-3E40-4D9A-A481-3F261929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95B2C-5134-4870-9856-D5C4AF89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ECE36-6B5D-4562-91EA-17A38CBC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9BF2-7E32-4864-B029-AF980CA0C6B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40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40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821E-302F-470E-9408-D2394BE6BBF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6BA1-48D4-42E7-A720-CDC913CC11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49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0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DCCD-27AA-4B56-AC18-D7FBA359E6E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5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F21-AECA-4CCC-9572-13200C63A50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6BE6-0A41-4150-A943-AC95EFA781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3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64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64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4130-CFE5-4628-BC2D-E79CAC38C39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3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69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69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E354-DEBA-4F6D-B26A-B794E157872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9D21-7D08-40CE-AE4B-711001C925F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8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78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79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BAFD-A8F8-48EF-940B-292FEB4A021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3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83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84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5B74-80B6-4D3E-A146-F162C2E6C47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29C8-7F9C-40BF-A068-74EFAFAEFCD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220A-0D7D-42EB-8F8C-FD0AD2C02FB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F170-3F9D-4272-A3CD-1DF127F82E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5AE6-132E-4C8A-9077-8599963820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D380-1D88-4F61-BA00-CF20F335C1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20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1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BD44-AB09-49B4-A5B3-7487AD84752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259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62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71BF-5ECF-4BFC-B726-423728C9EC2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12C3-1643-4C22-B976-40EC4D687E5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Freeform 9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354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Freeform 10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357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AAA7-725C-4C63-A67B-98D4694E840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CAcQjRw&amp;url=https%3A%2F%2Fwww.mun.ca%2Fbiology%2Fscarr%2FHuman_Karyotype.html&amp;ei=wAKdVcqBD-TiywPfnqLYCg&amp;bvm=bv.96952980,d.bGQ&amp;psig=AFQjCNF55IXNPyiNeL-unh5YSCyZAoWgvA&amp;ust=1436439609999253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contexo.info%2FDNA_Basics%2Fchromosomes.htm&amp;ei=DgOdVZTLHOLYyAO2z5rICg&amp;bvm=bv.96952980,d.bGQ&amp;psig=AFQjCNEozFmLUAcNf-8myRDz0fo94viffg&amp;ust=1436439668686197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osullivanlab.squarespace.com%2Fabout-telomeres%2F&amp;ei=i4afVbrCC8jxULetrpgL&amp;bvm=bv.97653015,d.bGQ&amp;psig=AFQjCNHiWvEz4xnNG97lgIJaLlBo8JV8aQ&amp;ust=1436604330241260" TargetMode="External"/><Relationship Id="rId2" Type="http://schemas.openxmlformats.org/officeDocument/2006/relationships/image" Target="../media/image33.jpeg"/><Relationship Id="rId3" Type="http://schemas.openxmlformats.org/officeDocument/2006/relationships/hyperlink" Target="http://www.google.rs/url?sa=i&amp;rct=j&amp;q=&amp;esrc=s&amp;source=images&amp;cd=&amp;cad=rja&amp;uact=8&amp;ved=0CAcQjRw&amp;url=http%3A%2F%2Fwww.rechargebiomedical.com%2Faging%2Ftelomeres-and-telomerase%2F&amp;ei=44afVaKSMcjTUf-Ug6gL&amp;bvm=bv.97653015,d.bGQ&amp;psig=AFQjCNHiWvEz4xnNG97lgIJaLlBo8JV8aQ&amp;ust=1436604330241260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rechargebiomedical.com%2Faging%2Ftelomeres-and-telomerase%2F&amp;ei=44afVaKSMcjTUf-Ug6gL&amp;bvm=bv.97653015,d.bGQ&amp;psig=AFQjCNHiWvEz4xnNG97lgIJaLlBo8JV8aQ&amp;ust=1436604330241260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google.rs/url?sa=i&amp;rct=j&amp;q=&amp;esrc=s&amp;source=images&amp;cd=&amp;cad=rja&amp;uact=8&amp;ved=0CAcQjRw&amp;url=http%3A%2F%2Fwww.rviplanning.com%2F2015%2F01%2Fstress-chromosomes-and-nature%2F&amp;ei=HoefVavaDsuvU_qWhPgE&amp;bvm=bv.97653015,d.bGQ&amp;psig=AFQjCNHiWvEz4xnNG97lgIJaLlBo8JV8aQ&amp;ust=1436604330241260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www.revivemdmedicalgroup.com/telomere-testing.html" TargetMode="External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47560" y="5029200"/>
            <a:ext cx="68785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enetics</a:t>
            </a:r>
            <a:br>
              <a:rPr sz="4800"/>
            </a:br>
            <a:br>
              <a:rPr sz="43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romatin-chromosomes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DNA + PROTEIN + RNA = CHROMA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lasses of PROTEINS enter the structure of chromosom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n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histone, acidic or residual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4648320" y="914400"/>
            <a:ext cx="406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cording to Watson and Crick (1953), the DNA molecule consists of two polynucleotide chains of complementary structure that are spirally wrapped around each other and interconnected by H-bo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2" name="Picture 5" descr="DNA"/>
          <p:cNvPicPr/>
          <p:nvPr/>
        </p:nvPicPr>
        <p:blipFill>
          <a:blip r:embed="rId1"/>
          <a:stretch/>
        </p:blipFill>
        <p:spPr>
          <a:xfrm>
            <a:off x="3808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basic unit of DNA is deoxyribonucleotide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oxyribonucleotide consists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oxyribose pentose su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orus groups (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rogen bases - purine (A, G) or pyrimidine (T, 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pending on the type of base, we distinguish 4 types of deoxyribonucleot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ighboring nucleotides are connected by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hosphodieste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onds, and opposite nucleotides by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Picture 9" descr="nuclei1"/>
          <p:cNvPicPr/>
          <p:nvPr/>
        </p:nvPicPr>
        <p:blipFill>
          <a:blip r:embed="rId1"/>
          <a:srcRect l="0" t="0" r="0" b="13295"/>
          <a:stretch/>
        </p:blipFill>
        <p:spPr>
          <a:xfrm>
            <a:off x="6343560" y="1184400"/>
            <a:ext cx="2800440" cy="2361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5" descr="nucleotides"/>
          <p:cNvPicPr/>
          <p:nvPr/>
        </p:nvPicPr>
        <p:blipFill>
          <a:blip r:embed="rId2"/>
          <a:stretch/>
        </p:blipFill>
        <p:spPr>
          <a:xfrm>
            <a:off x="4800600" y="3581280"/>
            <a:ext cx="43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 molecul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76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nlike DNA, RNA is a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single-strand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molecul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bonucleotide contains the pentose sugar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ib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d instead of thymine, the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yrimidine base is re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Picture 5" descr="dna_versus_rna_reversed"/>
          <p:cNvPicPr/>
          <p:nvPr/>
        </p:nvPicPr>
        <p:blipFill>
          <a:blip r:embed="rId1"/>
          <a:srcRect l="0" t="0" r="0" b="11492"/>
          <a:stretch/>
        </p:blipFill>
        <p:spPr>
          <a:xfrm>
            <a:off x="4876920" y="762120"/>
            <a:ext cx="4190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sr-CS" sz="4100" spc="-1" strike="noStrike">
                <a:solidFill>
                  <a:srgbClr val="ff95c0"/>
                </a:solidFill>
                <a:latin typeface="Corbel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Histone proteins (histones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01400" y="1218960"/>
            <a:ext cx="5181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proteins, 100-200 amino acids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-30% ARGININE+ and LYSINE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important for the structural organization of chromat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non-specific inhibitors of gene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distinguish 5 classes of histon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1, H2A, H2B, H3, H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histones except H1, with 2 molecules each, build the octameric nucleosome c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2" name="Picture 5" descr=""/>
          <p:cNvPicPr/>
          <p:nvPr/>
        </p:nvPicPr>
        <p:blipFill>
          <a:blip r:embed="rId1"/>
          <a:stretch/>
        </p:blipFill>
        <p:spPr>
          <a:xfrm>
            <a:off x="5735520" y="2924280"/>
            <a:ext cx="33829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12920" y="64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osome - basic unit of chromatin structure; histone H1 binds DNA to the nucleosome core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74" name="Picture 9" descr=""/>
          <p:cNvPicPr/>
          <p:nvPr/>
        </p:nvPicPr>
        <p:blipFill>
          <a:blip r:embed="rId1"/>
          <a:stretch/>
        </p:blipFill>
        <p:spPr>
          <a:xfrm>
            <a:off x="1727280" y="4157640"/>
            <a:ext cx="5492520" cy="2685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"/>
          <p:cNvPicPr/>
          <p:nvPr/>
        </p:nvPicPr>
        <p:blipFill>
          <a:blip r:embed="rId2"/>
          <a:stretch/>
        </p:blipFill>
        <p:spPr>
          <a:xfrm>
            <a:off x="3048120" y="1839960"/>
            <a:ext cx="25416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Non-histone, acidic or residual protei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represented in a small amount in chromoso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a number of classes of these prote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specific for each type of org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plication and transcription enzy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histone modifiers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gulatory proteins (specific gene activato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Picture 4" descr="chromatin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1488960"/>
            <a:ext cx="4876560" cy="520092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9"/>
          <p:cNvSpPr/>
          <p:nvPr/>
        </p:nvSpPr>
        <p:spPr>
          <a:xfrm>
            <a:off x="1257480" y="541440"/>
            <a:ext cx="66294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ing of DNA molecules to the metaphase 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hromozom elek mikro-1"/>
          <p:cNvPicPr/>
          <p:nvPr/>
        </p:nvPicPr>
        <p:blipFill>
          <a:blip r:embed="rId1"/>
          <a:stretch/>
        </p:blipFill>
        <p:spPr>
          <a:xfrm>
            <a:off x="1517760" y="1219320"/>
            <a:ext cx="5711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HROMOZOMI 4 I 5"/>
          <p:cNvPicPr/>
          <p:nvPr/>
        </p:nvPicPr>
        <p:blipFill>
          <a:blip r:embed="rId1"/>
          <a:srcRect l="0" t="0" r="0" b="50596"/>
          <a:stretch/>
        </p:blipFill>
        <p:spPr>
          <a:xfrm>
            <a:off x="1752480" y="2209680"/>
            <a:ext cx="5715000" cy="320040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metaphase chromosom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50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2361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The science of the inheritance of traits, as well as the variability of traits that are inheri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Gregor Mendel (1822.-1884.), known as the "father of modern gene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Arial"/>
              </a:rPr>
              <a:t>Our modern understanding of how traits may be inherited through generations comes from the principles proposed by Gregor Men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ryotype, karyogram, idiogram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80520" y="198072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chromosomes in the nucleus of a cell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y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y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hotographed karyotype chromosomes, cut out and ordered by shape and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i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chematic representation of chromosome regions and sub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karyotyp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86" name="Picture 5" descr="https://encrypted-tbn0.gstatic.com/images?q=tbn:ANd9GcSocEZjt2-1mUBQQnOMpzHy8U0F22rVyI8UzRfIaovv7PYb4s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981080"/>
            <a:ext cx="5181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Human karyogram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88" name="Picture 5" descr="http://www.contexo.info/DNA_Basics/images/karyotypeX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1337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Idiogram of human chromosom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90" name="Picture 4" descr=""/>
          <p:cNvPicPr/>
          <p:nvPr/>
        </p:nvPicPr>
        <p:blipFill>
          <a:blip r:embed="rId1"/>
          <a:srcRect l="0" t="19032" r="0" b="0"/>
          <a:stretch/>
        </p:blipFill>
        <p:spPr>
          <a:xfrm>
            <a:off x="1905120" y="2133720"/>
            <a:ext cx="50958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aa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phological structure of the human chromosom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992" name="Picture 7" descr=""/>
          <p:cNvPicPr/>
          <p:nvPr/>
        </p:nvPicPr>
        <p:blipFill>
          <a:blip r:embed="rId1"/>
          <a:stretch/>
        </p:blipFill>
        <p:spPr>
          <a:xfrm>
            <a:off x="1274760" y="2286000"/>
            <a:ext cx="6781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entromere (primary constriction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he centrom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two sister chromatids of a chromo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the chromosome with the threads of the dividing spindle - the mechanical center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netoch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chromosomes normally have 1 centromere 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romosome with a larger number of centromeres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ycen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romosome, and one without a centromere i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en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romos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chromosomes according to the position of the centromer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6" name="Rectangle 8"/>
          <p:cNvSpPr/>
          <p:nvPr/>
        </p:nvSpPr>
        <p:spPr>
          <a:xfrm>
            <a:off x="1752480" y="5334120"/>
            <a:ext cx="54864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uman karyotype normally contai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me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rocen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10" descr="Centromere- Definition, Structure, Position, Types, Functions"/>
          <p:cNvPicPr/>
          <p:nvPr/>
        </p:nvPicPr>
        <p:blipFill>
          <a:blip r:embed="rId1"/>
          <a:srcRect l="0" t="14987" r="0" b="0"/>
          <a:stretch/>
        </p:blipFill>
        <p:spPr>
          <a:xfrm>
            <a:off x="685800" y="1781280"/>
            <a:ext cx="79246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uchromati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51920" y="236196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ndensed chromat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ns brighter with basic dy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ich in CG base pai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plicates early during the S phase of interph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functionally active part of chromat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Picture 4" descr="nucchr3"/>
          <p:cNvPicPr/>
          <p:nvPr/>
        </p:nvPicPr>
        <p:blipFill>
          <a:blip r:embed="rId1"/>
          <a:stretch/>
        </p:blipFill>
        <p:spPr>
          <a:xfrm>
            <a:off x="4714920" y="685800"/>
            <a:ext cx="4213080" cy="167652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5" descr=""/>
          <p:cNvPicPr/>
          <p:nvPr/>
        </p:nvPicPr>
        <p:blipFill>
          <a:blip r:embed="rId2"/>
          <a:stretch/>
        </p:blipFill>
        <p:spPr>
          <a:xfrm>
            <a:off x="4978440" y="2717640"/>
            <a:ext cx="412740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2" descr="Euchromatin - Wikipedia"/>
          <p:cNvPicPr/>
          <p:nvPr/>
        </p:nvPicPr>
        <p:blipFill>
          <a:blip r:embed="rId2"/>
          <a:stretch/>
        </p:blipFill>
        <p:spPr>
          <a:xfrm>
            <a:off x="717480" y="12600"/>
            <a:ext cx="77090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Heterochromati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279000" y="1447920"/>
            <a:ext cx="595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ensed part of chromat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tained darker with base dy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ich in AT base pai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plicates late in S pha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heterochromati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stitutive – located in the region of the centrome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cultative - represents the functionally inactive state of some chromosomes (only one chromosome from the pair - eg inactive X chromosom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5946840" y="1074600"/>
            <a:ext cx="2971800" cy="23036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6" descr=""/>
          <p:cNvPicPr/>
          <p:nvPr/>
        </p:nvPicPr>
        <p:blipFill>
          <a:blip r:embed="rId2"/>
          <a:stretch/>
        </p:blipFill>
        <p:spPr>
          <a:xfrm>
            <a:off x="6235560" y="3751200"/>
            <a:ext cx="2772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2" descr="Gregor Mendel (1860's) discovered the fundamental principles of... |  Download Scientific Diagram"/>
          <p:cNvPicPr/>
          <p:nvPr/>
        </p:nvPicPr>
        <p:blipFill>
          <a:blip r:embed="rId2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04920" y="10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econdary constriction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304920" y="1294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role of secondary constriction is the synthesis of material that enters the structure of the nucleolus - "nucleolar organizing regions“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OR regi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t consists of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rately repetitive DNA sequenc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at region are the genes for rR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hromosomes in the human karyotype have secondary constrictions. They are found o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ms of chromosom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 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ms of all acrocentric chromosome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, 14, 15, 21 and 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1" name="Picture 8" descr="What is secondary constriction of chromosome Explain with diagram - 1p3jydbb"/>
          <p:cNvPicPr/>
          <p:nvPr/>
        </p:nvPicPr>
        <p:blipFill>
          <a:blip r:embed="rId1"/>
          <a:stretch/>
        </p:blipFill>
        <p:spPr>
          <a:xfrm>
            <a:off x="2743200" y="4797360"/>
            <a:ext cx="34988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atellit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368280" y="1980720"/>
            <a:ext cx="4425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5520" indent="-343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re located at the ends of th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arms of acrocentric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ary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y can be double or sing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43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y do not contain functional gen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Picture 8" descr="Резултат слика за chromosome satellite images"/>
          <p:cNvPicPr/>
          <p:nvPr/>
        </p:nvPicPr>
        <p:blipFill>
          <a:blip r:embed="rId1"/>
          <a:stretch/>
        </p:blipFill>
        <p:spPr>
          <a:xfrm>
            <a:off x="4794120" y="2209680"/>
            <a:ext cx="4108680" cy="2895840"/>
          </a:xfrm>
          <a:prstGeom prst="rect">
            <a:avLst/>
          </a:prstGeom>
          <a:ln w="0">
            <a:noFill/>
          </a:ln>
        </p:spPr>
      </p:pic>
      <p:sp>
        <p:nvSpPr>
          <p:cNvPr id="1015" name="Down Arrow 12"/>
          <p:cNvSpPr/>
          <p:nvPr/>
        </p:nvSpPr>
        <p:spPr>
          <a:xfrm>
            <a:off x="7696080" y="2438280"/>
            <a:ext cx="228600" cy="5335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elomeres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7632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omeres are the ends of chromoso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hromosomes in the telomere region contain a sequence of 6 nucleoti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AGG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is repeated several thousand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role of telomeres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linear integrity of 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he chromosomes to the inner side of the nuclear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regulate the length of the cell's life, since they change during development, they regulate the number of cell div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7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Picture 9" descr="http://static1.squarespace.com/static/532e4d42e4b0ff70f47aa68a/534192fbe4b09aa0fe627b63/53419735e4b0cccdfc3bb867/1397173735746/Aging-process-affected-by-lifestyle-and-telomere-length-650x48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762120"/>
            <a:ext cx="2057400" cy="137160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1" descr="http://rechargebiomedical.com/userfiles/images/telomere-zoo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2887560"/>
            <a:ext cx="2666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200" y="495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omeres regulate life span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23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7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1" descr="http://rechargebiomedical.com/userfiles/images/telomere-zoo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895480"/>
            <a:ext cx="2667240" cy="1447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" descr="http://www.rviplanning.com/wp-content/uploads/2015/01/ChromosomeTelomer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440" y="1973160"/>
            <a:ext cx="6139080" cy="42674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http://www.revivemdmedicalgroup.com/uploads/2/4/4/8/2448782/9089254.jpg?2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48440" y="111924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6" descr="http://www.buzzle.com/img/articleImages/597297-5555-20.jpg"/>
          <p:cNvPicPr/>
          <p:nvPr/>
        </p:nvPicPr>
        <p:blipFill>
          <a:blip r:embed="rId7"/>
          <a:stretch/>
        </p:blipFill>
        <p:spPr>
          <a:xfrm>
            <a:off x="6477120" y="2819520"/>
            <a:ext cx="2476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lomeres stained by fluorescenc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 sit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ybridization (FISH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6400800" y="3352680"/>
            <a:ext cx="1981080" cy="114300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s indicate the existence of telomeric reg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Picture 6" descr="https://encrypted-tbn3.gstatic.com/images?q=tbn:ANd9GcQBgvOCWDTlB-Be7AIF00Cvee5qcMoTagZES3dxx360Pe-7ZTxn"/>
          <p:cNvPicPr/>
          <p:nvPr/>
        </p:nvPicPr>
        <p:blipFill>
          <a:blip r:embed="rId1"/>
          <a:stretch/>
        </p:blipFill>
        <p:spPr>
          <a:xfrm>
            <a:off x="1752480" y="2133720"/>
            <a:ext cx="41911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andardization of the human karyo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ation of the human karyotype was carried out at conferences in Denver (1960), London (1963), Chicago (1966) and Paris (1971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he karyotype is defined, the chromosomes are divided into 7 groups based on the length of the chromosome and the position of the centromere, the sex X chromosome is classified into the C group, and the Y into the G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d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he importance of the autoradiographic method in the study of replication was highlighted, satellites were observed on acrocentric chromosomes, and the Y chromosome was studied in deta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Chicago, chromosomes are classified into 7 groups (A, B, C, D, E, F, G)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35" name="Picture 3" descr="solidktp"/>
          <p:cNvPicPr/>
          <p:nvPr/>
        </p:nvPicPr>
        <p:blipFill>
          <a:blip r:embed="rId1"/>
          <a:stretch/>
        </p:blipFill>
        <p:spPr>
          <a:xfrm>
            <a:off x="1371600" y="1905120"/>
            <a:ext cx="6400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ulas for marking karyotypes were defined in Chicago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152280" y="2438280"/>
            <a:ext cx="3657600" cy="236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female kary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6,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male kary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6,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4572000" y="2286000"/>
            <a:ext cx="4114800" cy="396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ulas of aberrant karyotypes (example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er syndr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 syndr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47,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 (+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inefelter syndro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47,Х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ng chromosome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46,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Paris, chromosomes banding techniques were defin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, C, Q and R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40" name="Picture 9" descr="dobar G band"/>
          <p:cNvPicPr/>
          <p:nvPr/>
        </p:nvPicPr>
        <p:blipFill>
          <a:blip r:embed="rId1"/>
          <a:stretch/>
        </p:blipFill>
        <p:spPr>
          <a:xfrm>
            <a:off x="457200" y="2133720"/>
            <a:ext cx="3581280" cy="373356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pic>
        <p:nvPicPr>
          <p:cNvPr id="1041" name="Picture 10" descr="humani genom C bend"/>
          <p:cNvPicPr/>
          <p:nvPr/>
        </p:nvPicPr>
        <p:blipFill>
          <a:blip r:embed="rId2"/>
          <a:stretch/>
        </p:blipFill>
        <p:spPr>
          <a:xfrm>
            <a:off x="4648320" y="2133720"/>
            <a:ext cx="4012920" cy="369072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  <p:sp>
        <p:nvSpPr>
          <p:cNvPr id="1042" name="Rectangle 4"/>
          <p:cNvSpPr/>
          <p:nvPr/>
        </p:nvSpPr>
        <p:spPr>
          <a:xfrm>
            <a:off x="1219320" y="6019920"/>
            <a:ext cx="2057400" cy="380880"/>
          </a:xfrm>
          <a:prstGeom prst="rect">
            <a:avLst/>
          </a:prstGeom>
          <a:solidFill>
            <a:srgbClr val="b5ed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 ban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"/>
          <p:cNvSpPr/>
          <p:nvPr/>
        </p:nvSpPr>
        <p:spPr>
          <a:xfrm>
            <a:off x="5562720" y="5943600"/>
            <a:ext cx="2057400" cy="380880"/>
          </a:xfrm>
          <a:prstGeom prst="rect">
            <a:avLst/>
          </a:prstGeom>
          <a:solidFill>
            <a:srgbClr val="b5edfd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 techn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Branches of genetics</a:t>
            </a:r>
            <a:endParaRPr b="0" lang="en-US" sz="43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5684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cording to the level of organization of hereditary matter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Molecular gene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Cytogenetics (Radiation genetics and Chemical mutagene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Genetics of development (Cancer genetics, Immunogenetics, Genetics of ag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Population genetics (Evolutionary and Ecologic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chromosomes stained with the Q banding techniqu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45" name="Picture 2" descr="http://www.spectral-imaging.com/sites/default/files/pictures/products/Qbanding%20(1).JPG"/>
          <p:cNvPicPr/>
          <p:nvPr/>
        </p:nvPicPr>
        <p:blipFill>
          <a:blip r:embed="rId1"/>
          <a:stretch/>
        </p:blipFill>
        <p:spPr>
          <a:xfrm>
            <a:off x="838080" y="1752480"/>
            <a:ext cx="6782040" cy="4419720"/>
          </a:xfrm>
          <a:prstGeom prst="rect">
            <a:avLst/>
          </a:prstGeom>
          <a:ln w="0">
            <a:noFill/>
          </a:ln>
        </p:spPr>
      </p:pic>
      <p:sp>
        <p:nvSpPr>
          <p:cNvPr id="1046" name="Rectangle 4"/>
          <p:cNvSpPr/>
          <p:nvPr/>
        </p:nvSpPr>
        <p:spPr>
          <a:xfrm>
            <a:off x="3733920" y="6248520"/>
            <a:ext cx="1600200" cy="457200"/>
          </a:xfrm>
          <a:prstGeom prst="rect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,X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chromosomes stained with the R banding technique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1048" name="Picture 2" descr="http://www.nature.com/bmt/journal/v33/n2/images/1704308f1.jpg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076640"/>
          </a:xfrm>
          <a:prstGeom prst="rect">
            <a:avLst/>
          </a:prstGeom>
          <a:ln w="0">
            <a:noFill/>
          </a:ln>
        </p:spPr>
      </p:pic>
      <p:sp>
        <p:nvSpPr>
          <p:cNvPr id="1049" name="Rectangle 4"/>
          <p:cNvSpPr/>
          <p:nvPr/>
        </p:nvSpPr>
        <p:spPr>
          <a:xfrm>
            <a:off x="3809880" y="6095880"/>
            <a:ext cx="1371600" cy="457200"/>
          </a:xfrm>
          <a:prstGeom prst="rect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7, ХХ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151920" y="193464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Constantia"/>
              </a:rPr>
              <a:t>http://learn.genetics.utah.edu/content/basics/karyotype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According to the type of organism on which the study is carried out:</a:t>
            </a:r>
            <a:endParaRPr b="0" lang="en-US" sz="2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icrobial Ge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Plant ge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nimal ge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Human gen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7" name="Picture 5" descr="Genetics - Biology As Poetry"/>
          <p:cNvPicPr/>
          <p:nvPr/>
        </p:nvPicPr>
        <p:blipFill>
          <a:blip r:embed="rId1"/>
          <a:srcRect l="16667" t="0" r="15834" b="0"/>
          <a:stretch/>
        </p:blipFill>
        <p:spPr>
          <a:xfrm>
            <a:off x="4584600" y="2011320"/>
            <a:ext cx="38862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4617b"/>
                </a:solidFill>
                <a:latin typeface="Arial"/>
              </a:rPr>
              <a:t>Chromosomes of eukaryot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2286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ocated in the nucleus of the 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ook different depending on the phase of the cell cyc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interphase nucleus- chromatin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rom the beginning of cell division - chromatin is condensed and organized into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5" descr=""/>
          <p:cNvPicPr/>
          <p:nvPr/>
        </p:nvPicPr>
        <p:blipFill>
          <a:blip r:embed="rId1"/>
          <a:stretch/>
        </p:blipFill>
        <p:spPr>
          <a:xfrm>
            <a:off x="609480" y="4711680"/>
            <a:ext cx="4572000" cy="19810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"/>
          <p:cNvPicPr/>
          <p:nvPr/>
        </p:nvPicPr>
        <p:blipFill>
          <a:blip r:embed="rId2"/>
          <a:stretch/>
        </p:blipFill>
        <p:spPr>
          <a:xfrm>
            <a:off x="6006960" y="4711680"/>
            <a:ext cx="25909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 txBox="1"/>
          <p:nvPr/>
        </p:nvSpPr>
        <p:spPr>
          <a:xfrm>
            <a:off x="393480" y="72396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mologous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omatic cells - 46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23 pairs (2n-diploid number of chromoso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2 pairs are autosomal chromosomes and 1 pair are sex chromoso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emale gender - XX sex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ale gender - XY sex chromos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1" descr=""/>
          <p:cNvPicPr/>
          <p:nvPr/>
        </p:nvPicPr>
        <p:blipFill>
          <a:blip r:embed="rId1"/>
          <a:stretch/>
        </p:blipFill>
        <p:spPr>
          <a:xfrm>
            <a:off x="954000" y="4621320"/>
            <a:ext cx="3276720" cy="21240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2" descr=""/>
          <p:cNvPicPr/>
          <p:nvPr/>
        </p:nvPicPr>
        <p:blipFill>
          <a:blip r:embed="rId2"/>
          <a:srcRect l="0" t="24235" r="4567" b="6799"/>
          <a:stretch/>
        </p:blipFill>
        <p:spPr>
          <a:xfrm>
            <a:off x="6396120" y="5045040"/>
            <a:ext cx="2354040" cy="1274760"/>
          </a:xfrm>
          <a:prstGeom prst="rect">
            <a:avLst/>
          </a:prstGeom>
          <a:ln w="0">
            <a:noFill/>
          </a:ln>
        </p:spPr>
      </p:pic>
      <p:sp>
        <p:nvSpPr>
          <p:cNvPr id="956" name="Rectangle 1"/>
          <p:cNvSpPr/>
          <p:nvPr/>
        </p:nvSpPr>
        <p:spPr>
          <a:xfrm>
            <a:off x="6553080" y="6389640"/>
            <a:ext cx="798480" cy="3254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7729560" y="6373800"/>
            <a:ext cx="798480" cy="3254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COMPOSITION OF CHROMOSOMES OF 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Microsoft Office User</cp:lastModifiedBy>
  <cp:lastPrinted>2024-02-13T06:36:03Z</cp:lastPrinted>
  <dcterms:modified xsi:type="dcterms:W3CDTF">2024-02-13T07:48:29Z</dcterms:modified>
  <cp:revision>186</cp:revision>
  <dc:subject/>
  <dc:title>2-Humani genom</dc:title>
</cp:coreProperties>
</file>